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00A-8462-43E7-B5E1-79121628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F04-00A2-444D-AC2B-86AA1D7E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EFA-536F-4EA3-831F-33E2C503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324-F2C0-4D15-BDBA-3B04B7FE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BAE-E877-4A03-9130-CC478951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43A-B05E-473D-BFF5-8DC55EDA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AC09-B5F8-43FF-9B75-3E2B0D68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9E23-DB87-42FC-BD81-E98A0995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CD1-B16C-4857-934D-78C1FF2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832-A40F-423C-9414-D4789D6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EA65-4E7E-43F1-A45E-8873003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7FC-3184-4611-8BCA-0EB2EE8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268-8005-4908-8700-52875D2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E5D-4442-4DAE-AAB0-756F372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8CB4-5FF8-46C3-A7C5-E955BA5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9FC3-B146-4A5C-9876-BB07C5EC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F27-7948-45F3-881C-AF8C3A2D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690B4-8F0E-40E3-BED5-AD9FDFE7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42545-3059-4EDF-ACEE-0B6F1D5B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BDC57-29A8-4A18-AB11-FCBC2172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BF822-1000-41BB-AB04-8E6E572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35BBA-AC53-4726-8285-3146FB1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106-B506-42D9-80EA-679B31C4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4889B-6479-4CCD-AFAC-1FA38B5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72C72-72BA-4052-833F-F1EF520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9C749-C59C-4C2A-9F58-5CD43BAC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6257F-12B0-448C-AEC3-567E012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431CA-0D47-4CE7-AE6D-BEC436D9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5CA03-8AAC-408B-A99C-8D6C9EC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1665A-56F9-45C3-83C6-9D09DA15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93299-510E-4AFF-9516-D4323C11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D0DEB-4059-443B-B82F-EA9E0DD5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2D7E0-9E5F-46DD-9E8D-B01B6EA8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59D-DE08-493A-AFEC-65B03DE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2725E-8A1C-4150-8837-B35F3C8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1AC30-20C3-4642-9A24-AFB5FF9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8D2BC-B829-41B8-A518-BE21A1D9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FB98A-0FA4-4D89-8B8F-E7DBBD1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FD95A-7A90-4A8A-BD5C-103E7AC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06672-F858-4262-ABC8-6F1FDAB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6A45D-1951-4693-9CAA-42E240B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936D6-7048-4293-A1D0-3C567717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F2ECF-C83A-4B33-8946-769237CD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24A93-CBDD-4BB3-B600-4AA55925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D55-F82F-49BE-9899-CD59D791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40E8F-2047-47E9-BB70-5225C4AE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752F8-9D2A-4FF0-BFF4-45FF1C3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256F8-7AC9-48BF-A50D-B78BCB87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C2435-9283-4B54-B0B3-4ADCA1D9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23BDD-5E3E-47A1-A5D9-A9F7BBD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3C75F-709A-44AE-96E6-1B91192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670A5-EADF-4390-BBE0-845312C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CA195-75CB-4C37-8921-DE2A77F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E821B-E5AB-4F17-BAFD-DA140A9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48761-779D-4E15-9702-A8CA8D18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919-4840-4E64-BB54-E6736276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016D0-AD59-4D80-9B7A-2A158657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B87B-F1CD-4B42-BB6C-26FB305E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FE53-3BFC-4307-B926-518F1EFE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2D9B-25A2-412F-9D1A-84CD764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BC41-8A0F-46FB-B03B-DA93E597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D958-D8AB-43AC-AAA1-104C3D6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0CFB-7223-4C8F-AFB7-D93C843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3C2C-F831-4A38-A55F-DC37612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999D-E06A-4825-88CF-2B0163F1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A14D-C9DE-4EA4-ADBA-BE01987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530-C341-443F-B4C0-0A280CC7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8BDF-0341-4A71-8827-CDA359F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B1F4-7709-45C3-BF6B-D4AC6C25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CF538-2A7F-4C7C-9162-FF13BE0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B70-4679-454A-A262-D198084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DDA-A80C-4B46-9D27-0E2666F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255-701C-4A94-8C85-39B5128D439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800-5B23-48AB-9C14-2FF477A4D4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584-16DD-4AF9-AB19-FAD22CE4BB0C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7A7-9AC8-4CC3-BC97-01EB5152D11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08A-3843-4F24-B042-34560C11848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788-D3CC-4E10-9F05-3276520F630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0B10-47D4-4AD1-9F24-9CD7925AF0F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D020-2C6B-4BF9-B80A-CD62C64A43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7F3-A5BD-499C-BD5B-24F6B0DCEC8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59B-1660-4FA5-A579-85EDC2D5E15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150804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55412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55412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12D7-01FB-47CC-8B3B-681BB12E2AA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 rot="5400000">
            <a:off x="140148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018-2EB5-4E5C-885B-B2B2D9E4BF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9720" y="9144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Futura Hv"/>
              </a:rPr>
              <a:t>EMERGENCY ROOM OF THE FUTURE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roup 3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hung-Lun Kua, Brandon Thompson, Sue Bh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437280" y="51166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612720" y="2438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80440" indent="-280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w Cen MT"/>
              </a:rPr>
              <a:t>Hallway Be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w Cen MT"/>
              </a:rPr>
              <a:t>Ambulance Divers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0440" indent="-280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w Cen MT"/>
              </a:rPr>
              <a:t>Records Manage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llway B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Observ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4 patients in the hallw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12 total hallway bed s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Typically reserved for low acuity pat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Beds filled by order of arriv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Lack of electrical outl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Medical carts not linked to nursing s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Patients have to be moved out of rooms into hallway someti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llway B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Patient priv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Patient liaison receives higher complaints from hallway beds in front of nursing st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Patients must be moved for sensitive scree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Nurse priv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Noise level in the hallw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Family crowds hallway – nowhere to s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mbulance Diver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Observ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ory uses eRESC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Requests help from Hospi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ttempt to reduce diver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Criteria is hospital specifi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can still deliver pat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– patient chooses hospital regardless of diver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923080" y="1011240"/>
            <a:ext cx="32004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mbulance Diver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RESCUE Criteria (need 2 or more trigger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ll beds full &amp; &gt; 12-15 patients in waiting roo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Holding 2 or more patients for IC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Holding &gt; 4-6 patients for bed assign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Level 2 acuity patients in waiting roo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Total ED volume &gt; 4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Diversion Crite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eRESCUE insufficient to decompress ED saturation sta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69388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 rot="5400000">
            <a:off x="-2210040" y="2971800"/>
            <a:ext cx="60962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775f55"/>
                  </a:solidFill>
                  <a:miter/>
                </a:ln>
                <a:solidFill>
                  <a:srgbClr val="775f55"/>
                </a:solidFill>
                <a:latin typeface="CordiaUPC"/>
              </a:rPr>
              <a:t>Ambulance Diversion</a:t>
            </a:r>
            <a:endParaRPr b="1" lang="en-US" sz="1800" spc="1" strike="noStrike">
              <a:ln w="9360">
                <a:solidFill>
                  <a:srgbClr val="775f55"/>
                </a:solidFill>
                <a:miter/>
              </a:ln>
              <a:solidFill>
                <a:srgbClr val="775f55"/>
              </a:solidFill>
              <a:latin typeface="CordiaUPC"/>
              <a:ea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cords Manage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Observ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ory uses Electronic Record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ble to access electronic medical recor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Patient status available to all nur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Can track lab sta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Data enter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13160" indent="-274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Admin, Triage, ER nurse, M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provides a paper registration fo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Meds can be ordered electronica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cords Manage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lectronic Record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35480" indent="-282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Unable to pull electronic records from other hospit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35480" indent="-282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w Cen MT"/>
              </a:rPr>
              <a:t>EMS registration must be entered manuall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EMS provides a paper registration fo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w Cen MT"/>
              </a:rPr>
              <a:t>Patients’ registration papers must be entered manually (why not let patients enter their own data into the computer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3849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 8803: Emergency Room of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3: Brandon, Chung, 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bservation 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"/>
          <p:cNvSpPr/>
          <p:nvPr/>
        </p:nvSpPr>
        <p:spPr>
          <a:xfrm>
            <a:off x="612720" y="3124080"/>
            <a:ext cx="815328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ory Crawford Long Emergency Depart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lorie Sweigart, RN, ER Nurse Direct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na McCloud, RN, ER Charge Nur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dice Dickson, ER Cle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jorie Bolton, ER Patient Liai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0:07Z</dcterms:created>
  <dc:creator>Jon Morris</dc:creator>
  <dc:description/>
  <dc:language>en-US</dc:language>
  <cp:lastModifiedBy>Thompson</cp:lastModifiedBy>
  <dcterms:modified xsi:type="dcterms:W3CDTF">2008-09-21T21:37:27Z</dcterms:modified>
  <cp:revision>579</cp:revision>
  <dc:subject/>
  <dc:title>Slide 1</dc:title>
</cp:coreProperties>
</file>